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6C3-604A-41B3-986F-0D42D334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846-8A79-4163-B7B0-1271E72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EED-A12C-4E94-9BF7-A0C7953C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A1-C6C1-4C72-991F-350BE2E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C3A7-BB8F-4C15-957B-2DE1BCCA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FDA2-3931-4EAF-85EB-5CD6AE2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248-D17E-42E0-839B-A6B6955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738-B87E-4428-9C7B-A70F767C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C94D-F69A-4541-B874-15A4BF1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D85C-9336-4E02-9D16-6EDAC50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F63-A47C-4767-9DD7-4D3ADDA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618-70B2-46F8-8354-CD623E3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E14-8CF3-48A5-A62C-605CC83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BE59-12BD-4450-B3C9-5F61D36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2F89-BE70-4544-B739-DB84B64F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7928-A4E2-43DB-8EE7-01F0B0EE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D93-6504-477F-89CF-BCBE8721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6D5F-4C33-4A1A-BDF4-6DB707CE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421A-4778-442C-A95B-C3501C9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C0BB-2F64-4018-A736-BB536A75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7141-1B8D-4620-A44D-52617B0A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9CB8-2F1D-4337-98E0-7099876B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F2B-EF81-41DE-8CDC-3B386CAB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BA44-8A15-4CA2-B8DB-93D4667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1D41-EC2C-4744-A287-CDE3911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2DC0-9D0E-4A5A-8248-DF0A8F8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A39C-1494-43F5-B46F-4FF9661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9EA6-CF87-472B-BFF4-B825C9D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995A-F2DF-4952-8E47-965FECA0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519F-9E6B-4A2E-81FA-0D57D367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3FB-F1E8-4B4C-A401-95E440A8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ADF-FE96-4BF7-8108-56BDF8C9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51E-CA60-4C7C-A5AC-4F9A3486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680-B948-4AD8-9204-BF3633F2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579-5A15-4BB8-86F8-F6DF0EC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C16-7491-4EBA-88C2-1DCFB0B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1C38-E5BA-4E21-B069-14550E3781CE}" type="slidenum">
              <a:rPr b="1" lang="en-GB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347-C450-44B6-9AA1-F2756A2C073C}" type="slidenum"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0B4C-FFB1-48C1-AA8B-B951604CF7F1}" type="slidenum"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prs.heacademy.ac.uk/images/news.jpg&amp;imgrefurl=http://www.prs.heacademy.ac.uk/news/&amp;usg=__66etgdCQMZZdiTBuSt_TbYuMejQ=&amp;h=454&amp;w=454&amp;sz=55&amp;hl=en&amp;start=1&amp;zoom=1&amp;itbs=1&amp;tbnid=pCzlr53nR2eaAM:&amp;tbnh=128&amp;tbnw=128&amp;prev=/images%3Fq%3Dnews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.uk/imgres?imgurl=http://bnb.bpweb.net/N24/BBC%2520NEWS%252024_20060310-165413__0001.jpg&amp;imgrefurl=http://www.ukfree.tv/showchannel.php%3Fid%3DN24&amp;usg=__7rFKNVIITZoQSwpMevirxamb2Mw=&amp;h=576&amp;w=1024&amp;sz=109&amp;hl=en&amp;start=2&amp;zoom=1&amp;itbs=1&amp;tbnid=ttcjoNF28OO14M:&amp;tbnh=84&amp;tbnw=150&amp;prev=/images%3Fq%3DTV%2Bnews%2BBBC%26hl%3Den%26gbv%3D2%26tbs%3Disch:1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co.uk/imgres?imgurl=http://difference.blogs.glam.ac.uk/files/2010/03/JonSpaceHoppers2.jpg&amp;imgrefurl=http://difference.blogs.glam.ac.uk/&amp;usg=__LQtvGcYg0WzkG4ZbkhtvX9dAKbY=&amp;h=637&amp;w=485&amp;sz=277&amp;hl=en&amp;start=17&amp;zoom=1&amp;itbs=1&amp;tbnid=D4pWy1WgHg0T7M:&amp;tbnh=137&amp;tbnw=104&amp;prev=/images%3Fq%3Dscience%2Btv%2Bprogramme%26hl%3Den%26gbv%3D2%26tbs%3Disch:1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usaseopros.com/wp-content/uploads/2009/08/water-cooler-gossip.jpg&amp;imgrefurl=http://blog.usaseopros.com/tag/twitter/&amp;usg=__My0Uy_EqfGAuVljsRitHeRoYX3k=&amp;h=255&amp;w=240&amp;sz=16&amp;hl=en&amp;start=5&amp;zoom=1&amp;itbs=1&amp;tbnid=zRhhPkuRN6bREM:&amp;tbnh=111&amp;tbnw=104&amp;prev=/images%3Fq%3Dwater%2Bcooler%2Bgossip%26hl%3Den%26gbv%3D2%26tbs%3Disch: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imgres?imgurl=http://www.comedy.co.uk/images/library/people/300/i/inbetweeners_interview4.jpg&amp;imgrefurl=http://www.comedy.co.uk/news/story/00000350/simon_bird_may_quit_the_inbetweners/&amp;usg=__5GMBRIsCtXxCQx6TgSOJOfaVHOo=&amp;h=400&amp;w=300&amp;sz=39&amp;hl=en&amp;start=8&amp;zoom=1&amp;itbs=1&amp;tbnid=Ac4jqzISHooP_M:&amp;tbnh=124&amp;tbnw=93&amp;prev=/images%3Fq%3Dinbetweeners%26hl%3Den%26gbv%3D2%26tbs%3Disch: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Arial Black"/>
              </a:rPr>
              <a:t>AUDIENCE THEORY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282e"/>
                </a:solidFill>
                <a:latin typeface="Arial Black"/>
              </a:rPr>
              <a:t>A LEVEL MEDIA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155520" y="-433440"/>
            <a:ext cx="2286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298520" y="5516640"/>
            <a:ext cx="2468520" cy="97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868680" y="57168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cDonald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ant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u to think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i18.tinypic.com/8e1g504.jpg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488520" y="3571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2050200" y="121428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919440" y="26431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facets.org/images/super%20size%20me.jpg"/>
          <p:cNvPicPr/>
          <p:nvPr/>
        </p:nvPicPr>
        <p:blipFill>
          <a:blip r:embed="rId1"/>
          <a:stretch/>
        </p:blipFill>
        <p:spPr>
          <a:xfrm>
            <a:off x="4619520" y="2333520"/>
            <a:ext cx="4524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407240" y="21420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think that big macs do taste good, but I’ll only have them every now an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68436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manhattanoffender.typepad.com/manhattanoffender/images/bigmac2.jpg"/>
          <p:cNvPicPr/>
          <p:nvPr/>
        </p:nvPicPr>
        <p:blipFill>
          <a:blip r:embed="rId2"/>
          <a:stretch/>
        </p:blipFill>
        <p:spPr>
          <a:xfrm>
            <a:off x="5003640" y="3541680"/>
            <a:ext cx="39294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621504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johnstamosfever.files.wordpress.com/2009/03/jules-eating-hamburger-pulp-fiction1.jpg"/>
          <p:cNvPicPr/>
          <p:nvPr/>
        </p:nvPicPr>
        <p:blipFill>
          <a:blip r:embed="rId3"/>
          <a:stretch/>
        </p:blipFill>
        <p:spPr>
          <a:xfrm>
            <a:off x="2928960" y="4443480"/>
            <a:ext cx="3214800" cy="2414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 here we have three separate readings of that one ad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2"/>
          <p:cNvCxnSpPr/>
          <p:nvPr/>
        </p:nvCxnSpPr>
        <p:spPr>
          <a:xfrm flipH="1">
            <a:off x="1907280" y="2842920"/>
            <a:ext cx="793080" cy="8024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02" name="Straight Arrow Connector 4"/>
          <p:cNvCxnSpPr/>
          <p:nvPr/>
        </p:nvCxnSpPr>
        <p:spPr>
          <a:xfrm>
            <a:off x="4284360" y="2636640"/>
            <a:ext cx="430920" cy="144036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03" name="Straight Arrow Connector 6"/>
          <p:cNvCxnSpPr/>
          <p:nvPr/>
        </p:nvCxnSpPr>
        <p:spPr>
          <a:xfrm>
            <a:off x="5867280" y="2492280"/>
            <a:ext cx="1812240" cy="10087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ular Callout 2"/>
          <p:cNvSpPr/>
          <p:nvPr/>
        </p:nvSpPr>
        <p:spPr>
          <a:xfrm>
            <a:off x="2786040" y="0"/>
            <a:ext cx="6357960" cy="3933720"/>
          </a:xfrm>
          <a:prstGeom prst="wedgeRoundRectCallout">
            <a:avLst>
              <a:gd name="adj1" fmla="val -67703"/>
              <a:gd name="adj2" fmla="val 2624"/>
              <a:gd name="adj3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 1980 David Morley did a study of audience responses when watching the BBC TV show </a:t>
            </a: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Spotlight.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s a result of his research, he decided that audiences tend to fall into three groups based on their interpretation of the text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320" y="386064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Preferr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2565360" y="4941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egotiat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5409360" y="5950080"/>
            <a:ext cx="37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Oppos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0" name="Rounded Rectangular Callout 2"/>
          <p:cNvSpPr/>
          <p:nvPr/>
        </p:nvSpPr>
        <p:spPr>
          <a:xfrm>
            <a:off x="2786040" y="428760"/>
            <a:ext cx="350064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referred reading is the reading media producers hope audiences will take from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i18.tinypic.com/8e1g504.jpg"/>
          <p:cNvPicPr/>
          <p:nvPr/>
        </p:nvPicPr>
        <p:blipFill>
          <a:blip r:embed="rId2"/>
          <a:stretch/>
        </p:blipFill>
        <p:spPr>
          <a:xfrm>
            <a:off x="1428840" y="3359160"/>
            <a:ext cx="6215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3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dience members from outside the target audience may reject the preferred r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eiving their own alternativ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2857680" y="31431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216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00b0f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gotiated reading is when audiences acknowledge the preferred reading, but modify i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it their own values and opi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http://www.instablogsimages.com/images/2007/08/01/how-healthy-is-your-fresh-salad-diet_9.jpg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://manhattanoffender.typepad.com/manhattanoffender/images/bigmac2.jpg"/>
          <p:cNvPicPr/>
          <p:nvPr/>
        </p:nvPicPr>
        <p:blipFill>
          <a:blip r:embed="rId3"/>
          <a:stretch/>
        </p:blipFill>
        <p:spPr>
          <a:xfrm>
            <a:off x="5214960" y="3541680"/>
            <a:ext cx="3929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coke-launches-new-advert-for-zero-lrg"/>
          <p:cNvPicPr/>
          <p:nvPr/>
        </p:nvPicPr>
        <p:blipFill>
          <a:blip r:embed="rId1"/>
          <a:stretch/>
        </p:blipFill>
        <p:spPr>
          <a:xfrm>
            <a:off x="0" y="320760"/>
            <a:ext cx="6877080" cy="634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6948360" y="1557360"/>
            <a:ext cx="21956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PREFERR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GOCIAT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POSITIONAL reading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ACTIVE AUDIENC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he Uses and Gratifications Theo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The audience has a set of needs (Blumler and Katz 1975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Divers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Integration &amp; Social Intera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Personal ident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Surveillance/Inform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e use the media to gratify our need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e actively seek out media products that we really want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nks with liberal-pluralist perspectives (consumers hold the power over producer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805360" y="285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78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1282e"/>
                </a:solidFill>
                <a:latin typeface="Arial Black"/>
              </a:rPr>
              <a:t>MOST AUDIENCE THEORY FOCUSES ON TWO QUESTIONS..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8392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powerful are the media in influencing the ideas and behaviour of the audien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does the media shape an audience’s perception of the wor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udience theories suggest that representations are open to different interpretations and that their meanings are not fix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879640" y="2251080"/>
            <a:ext cx="3460680" cy="25923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11280" y="47628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onation Street viewers are individuals who are motivated by different im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6659640" y="14000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need fo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7093080" y="294624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to be part of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875640" y="5084640"/>
            <a:ext cx="15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to identify with character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9680" y="5807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lax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635280" y="54212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ed for structure and order – offers a reassuring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50920" y="270828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combat loneliness – allows audience to perceive themselves to be part of an IMAGIN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1"/>
          <p:cNvCxnSpPr/>
          <p:nvPr/>
        </p:nvCxnSpPr>
        <p:spPr>
          <a:xfrm flipH="1">
            <a:off x="1186920" y="1557360"/>
            <a:ext cx="432720" cy="7927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3" name="Straight Arrow Connector 13"/>
          <p:cNvCxnSpPr/>
          <p:nvPr/>
        </p:nvCxnSpPr>
        <p:spPr>
          <a:xfrm>
            <a:off x="1618920" y="1557000"/>
            <a:ext cx="3817080" cy="108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4" name="Straight Arrow Connector 15"/>
          <p:cNvCxnSpPr/>
          <p:nvPr/>
        </p:nvCxnSpPr>
        <p:spPr>
          <a:xfrm>
            <a:off x="1619280" y="1557000"/>
            <a:ext cx="721440" cy="6944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235" name="Straight Arrow Connector 17"/>
          <p:cNvCxnSpPr/>
          <p:nvPr/>
        </p:nvCxnSpPr>
        <p:spPr>
          <a:xfrm>
            <a:off x="1618920" y="1557000"/>
            <a:ext cx="1080" cy="115164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73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USES AND GRATIFICATION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) SURVEILLANCE/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want to find out about society and the wor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ne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BBC%2520NEWS%252024_20060310-165413__0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365720"/>
            <a:ext cx="2227320" cy="124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JonSpaceHoppers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10560" y="4005360"/>
            <a:ext cx="1420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    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) INTEGRATION &amp; SOCIAL INTERA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anionship through identification with television charact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e want to find out more about the circumstances of other people so we can empathise/sympathise with the lives of other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ciability through discussion about television with other peopl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water-cooler-goss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inbetweeners_interview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114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) PERSONAL 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ing reinforcement for personal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ying with a valued other in the 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ing insight into one’s sel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USES AND GRAT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75640" y="422100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GRATIFICATIO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 DI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 use the media for enjoyment, relaxation or just to fil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jeff-stelling-v1"/>
          <p:cNvPicPr/>
          <p:nvPr/>
        </p:nvPicPr>
        <p:blipFill>
          <a:blip r:embed="rId1"/>
          <a:stretch/>
        </p:blipFill>
        <p:spPr>
          <a:xfrm>
            <a:off x="5580000" y="4221000"/>
            <a:ext cx="237672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1"/>
          <p:cNvPicPr/>
          <p:nvPr/>
        </p:nvPicPr>
        <p:blipFill>
          <a:blip r:embed="rId2"/>
          <a:stretch/>
        </p:blipFill>
        <p:spPr>
          <a:xfrm>
            <a:off x="1258920" y="4221000"/>
            <a:ext cx="2376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1" descr=""/>
          <p:cNvPicPr/>
          <p:nvPr/>
        </p:nvPicPr>
        <p:blipFill>
          <a:blip r:embed="rId1"/>
          <a:stretch/>
        </p:blipFill>
        <p:spPr>
          <a:xfrm>
            <a:off x="604800" y="439560"/>
            <a:ext cx="7135920" cy="52930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468360" y="6027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uses and gratifications do the above offer their audi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31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NEW MEDIA – THE INTERNE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329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UTOP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2276280"/>
            <a:ext cx="3290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internet user is savvy, well informed and creati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tinctions between production and reception are blur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line communities allow audiences to interact with each other and produc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2000" y="1196640"/>
            <a:ext cx="3290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DYSTOP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427640" y="2276640"/>
            <a:ext cx="424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ies of internet users have shown an unequal distribution in terms of gender, age, ethnicity and social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increasing levels of corporate domination – big companies exploit  the potential for making money from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s of control and surveillance inhibit the autonomy and creativity once associated with the int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1282e"/>
                </a:solidFill>
                <a:latin typeface="Arial Black"/>
              </a:rPr>
              <a:t>CONSUMPTION OF MEDIA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re are different ways of consuming media texts…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Prim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demand close and concentrated attention from audience, eg. Films in cinema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Second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provide a background for an audience who are often doing something else at the same time and are distracted, eg. Radio and some TV programme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ertiary med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(texts that are consumed by audiences who are almost unaware of their own engagement with the media, eg. Advertising or radio stations broadcasting in shop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1285920" y="2352600"/>
            <a:ext cx="2808360" cy="259236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rket-Liberalis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3280" y="2352600"/>
            <a:ext cx="2882880" cy="27320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olitical-Economy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547640" y="47628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sses power of AUDIENCE over media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971640" y="535608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 preference decides what media texts are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135000" y="24447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 research and pre-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724360" y="51912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sses the power of PRODUCERS over media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270320" y="282600"/>
            <a:ext cx="216000" cy="63133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7664400" y="2571840"/>
            <a:ext cx="130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 is produced to appeal to adverti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810400" y="5356080"/>
            <a:ext cx="25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 of media organisations are open to abuse - promoting political parti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241200" y="317520"/>
            <a:ext cx="2232000" cy="17287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YPODERMIC NEED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003640" y="928800"/>
            <a:ext cx="2160720" cy="16556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WO STEP FLOW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651640" y="4140360"/>
            <a:ext cx="2305080" cy="1726920"/>
          </a:xfrm>
          <a:prstGeom prst="rect">
            <a:avLst/>
          </a:prstGeom>
          <a:solidFill>
            <a:srgbClr val="ff000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S AND GRATIFICATION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290600" y="4637160"/>
            <a:ext cx="2664000" cy="16556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CEPTIO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233280" y="23493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ing from 192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1908000" y="2349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771640" y="2001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is unmed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 flipV="1">
            <a:off x="539640" y="2046240"/>
            <a:ext cx="144720" cy="3031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"/>
          <p:cNvSpPr/>
          <p:nvPr/>
        </p:nvSpPr>
        <p:spPr>
          <a:xfrm>
            <a:off x="1908000" y="2046240"/>
            <a:ext cx="565200" cy="3031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5"/>
          <p:cNvSpPr/>
          <p:nvPr/>
        </p:nvSpPr>
        <p:spPr>
          <a:xfrm flipV="1">
            <a:off x="2473200" y="317160"/>
            <a:ext cx="298440" cy="20628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6"/>
          <p:cNvSpPr/>
          <p:nvPr/>
        </p:nvSpPr>
        <p:spPr>
          <a:xfrm rot="982200">
            <a:off x="3200400" y="1363680"/>
            <a:ext cx="1247760" cy="504720"/>
          </a:xfrm>
          <a:prstGeom prst="rightArrow">
            <a:avLst>
              <a:gd name="adj1" fmla="val 66491"/>
              <a:gd name="adj2" fmla="val 49959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own Arrow 18"/>
          <p:cNvSpPr/>
          <p:nvPr/>
        </p:nvSpPr>
        <p:spPr>
          <a:xfrm rot="486000">
            <a:off x="6566040" y="2949480"/>
            <a:ext cx="431640" cy="1027080"/>
          </a:xfrm>
          <a:prstGeom prst="downArrow">
            <a:avLst>
              <a:gd name="adj1" fmla="val 74491"/>
              <a:gd name="adj2" fmla="val 44648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eft Arrow 19"/>
          <p:cNvSpPr/>
          <p:nvPr/>
        </p:nvSpPr>
        <p:spPr>
          <a:xfrm>
            <a:off x="4081320" y="5234040"/>
            <a:ext cx="1152720" cy="48564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00b050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84080" y="1614600"/>
            <a:ext cx="1092240" cy="431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0"/>
          <p:cNvSpPr/>
          <p:nvPr/>
        </p:nvSpPr>
        <p:spPr>
          <a:xfrm>
            <a:off x="7534440" y="316080"/>
            <a:ext cx="12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called the ‘limited effects paradig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3419640" y="2924280"/>
            <a:ext cx="23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effects are important in the way audiences consum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 flipV="1">
            <a:off x="4572000" y="2197080"/>
            <a:ext cx="431640" cy="727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5"/>
          <p:cNvSpPr/>
          <p:nvPr/>
        </p:nvSpPr>
        <p:spPr>
          <a:xfrm flipV="1">
            <a:off x="7164360" y="847800"/>
            <a:ext cx="287280" cy="35064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7421400" y="3463920"/>
            <a:ext cx="14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mler and Katz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4762440" y="6122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ences consume texts for different reasons and in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9"/>
          <p:cNvSpPr/>
          <p:nvPr/>
        </p:nvSpPr>
        <p:spPr>
          <a:xfrm flipV="1">
            <a:off x="5724360" y="5867280"/>
            <a:ext cx="360360" cy="2556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047"/>
          <p:cNvSpPr/>
          <p:nvPr/>
        </p:nvSpPr>
        <p:spPr>
          <a:xfrm flipV="1">
            <a:off x="7956720" y="4109760"/>
            <a:ext cx="360360" cy="3985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48"/>
          <p:cNvSpPr/>
          <p:nvPr/>
        </p:nvSpPr>
        <p:spPr>
          <a:xfrm>
            <a:off x="233280" y="3786120"/>
            <a:ext cx="22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art Hall’s Encoding/Decod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050"/>
          <p:cNvSpPr/>
          <p:nvPr/>
        </p:nvSpPr>
        <p:spPr>
          <a:xfrm>
            <a:off x="0" y="52340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s have preferred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052"/>
          <p:cNvSpPr/>
          <p:nvPr/>
        </p:nvSpPr>
        <p:spPr>
          <a:xfrm flipH="1" flipV="1">
            <a:off x="1042920" y="4508280"/>
            <a:ext cx="247680" cy="4950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54"/>
          <p:cNvSpPr/>
          <p:nvPr/>
        </p:nvSpPr>
        <p:spPr>
          <a:xfrm flipH="1" flipV="1">
            <a:off x="1042920" y="5866920"/>
            <a:ext cx="247680" cy="2905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PASSIVE AUDIENC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752480"/>
            <a:ext cx="82184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ffects The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commentators see the media as a sinister and insidious fo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rankfurt School (Adorno and Horkheimer) – a group of Marxist intellectuals developed a critique of the mass media after expressing horror at the success of Nazi Germany propagan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y argued the media had considerable power over the behaviour and beliefs of the audi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ssive audience soak up the empty promises of mass entertainment, becoming willing victims who both produce and consume the products of consumer capitalis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udience are powerless to resist the effects of media mess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594560" y="90360"/>
            <a:ext cx="1417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8598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THE TWO STEP FLOW MOD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557000"/>
            <a:ext cx="76201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tz and Lazars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ption in which media messages are mediated by others – ‘opinion leaders’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 presidential campaign 19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r opinion can form or develop based on what others have to s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word of mo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443640" y="4010040"/>
            <a:ext cx="2394000" cy="2847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3240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282e"/>
                </a:solidFill>
                <a:latin typeface="Arial Black"/>
              </a:rPr>
              <a:t>ENCODING/DECO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art Hall drew upon the Gramscian hegemony theory in developing the encoding/decoding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wanted to focus on how dominant ideological messages can be resisted or reinterpreted by audience me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coding stage, the producers of texts create messages (codes) which they expect their viewers/readers to underst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the audience come in contact with the text, we decode the messages to create mea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damentally, media messages are POLYSEMIC – they contain numerous possible interpret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ever, we can be steered towards a preferred reading of a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740720" y="115920"/>
            <a:ext cx="1120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farm3.static.flickr.com/2110/2515313276_afc444e01c.jpg?v=0"/>
          <p:cNvPicPr/>
          <p:nvPr/>
        </p:nvPicPr>
        <p:blipFill>
          <a:blip r:embed="rId1"/>
          <a:stretch/>
        </p:blipFill>
        <p:spPr>
          <a:xfrm>
            <a:off x="2916360" y="0"/>
            <a:ext cx="5357520" cy="68691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539640" y="11970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art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68360" y="25574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red, Negotiated and Oppositional readings of media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684360" y="49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or examp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12:08Z</dcterms:created>
  <dc:creator>Participation</dc:creator>
  <dc:description/>
  <dc:language>en-US</dc:language>
  <cp:lastModifiedBy>Participation</cp:lastModifiedBy>
  <dcterms:modified xsi:type="dcterms:W3CDTF">2011-01-09T17:46:10Z</dcterms:modified>
  <cp:revision>24</cp:revision>
  <dc:subject/>
  <dc:title>Audience Theory</dc:title>
</cp:coreProperties>
</file>